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FED-C1E2-4659-88EC-8709AD15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7CC7-92E7-4479-8DEE-2D17C553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3334-CE35-4DFB-A97A-F6F63022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7DE-EAB0-4EB0-93F2-9ADECC1A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1198-3D95-41FF-AF6B-B3C2D9A5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78BA-AE0D-4B67-B3C4-11E43C69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4FDC-CB30-4F21-B344-0FDB822A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2FAC-C045-431F-9709-0DE51123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0C59-1ACA-4F56-AE76-0C2FA98C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04EF-4DD3-448F-A6D2-57A889A3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C569-FCA6-4D70-A500-1E712E4E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ECA-D36D-4826-A1E9-6B4F51EF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2222-574B-4B97-A38A-A3F0A005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FE30-7802-42D2-AB96-B29BB1CD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6D05-0327-4FFE-AE32-1DBD505B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556B-9792-41CD-A838-0592D233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DE09-78BC-4E54-AF08-57357B88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E42-6966-48D6-909E-A76887FE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4C0-D916-4C65-9AF3-550E9159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B40-FB32-4892-AF22-5E13A0E1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FF5F-6075-4F1D-ABAD-87451E44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BF5-3414-4870-BFEC-CC7FB591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40E-AA8D-4FE5-9762-EE344E96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EE6-1EA3-4171-B79B-C5266174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C324-6434-4B7B-82D6-0B7C0517C621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85C1-6DE7-4668-AAC3-0B4367BB46F6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914400"/>
            <a:ext cx="687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t’s one of the favourite animal – racing of the British Queen? What animals take place in it?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325560" y="518112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5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8480" y="4145400"/>
            <a:ext cx="215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orses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37:5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